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8A9E-6434-4EAD-912A-B0FD6D3F2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9616-8F9C-48EC-A116-6D96A00CA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5122-FC68-405C-9708-94F6618DE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B820-7CE0-4D4A-AF12-3F1E9DD4C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404E-6486-4BD9-8684-3ACD15472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D655-6D88-4B98-A8AE-7B1D13B6A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8709-8A8E-46B3-8F4B-040BE4FC8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23AF-39F4-45B0-8921-7DDEC7777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280B-172B-4399-B922-A4909EA82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6632-63B3-4FB1-8CFA-0E75032C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C131-1863-4889-8CF9-0D053596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0497-4005-4C41-8AC2-DCE91132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DB12F-17A1-4459-8676-400E42EDDF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684360" y="189000"/>
            <a:ext cx="77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2060"/>
                </a:solidFill>
                <a:uFillTx/>
                <a:latin typeface="Calibri"/>
              </a:rPr>
              <a:t>Thème 2</a:t>
            </a:r>
            <a:r>
              <a:rPr b="1" lang="fr-FR" sz="2800" spc="-1" strike="noStrike">
                <a:solidFill>
                  <a:srgbClr val="002060"/>
                </a:solidFill>
                <a:latin typeface="Calibri"/>
              </a:rPr>
              <a:t> : L’e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2060"/>
                </a:solidFill>
                <a:uFillTx/>
                <a:latin typeface="Calibri"/>
              </a:rPr>
              <a:t>Domaine d’étude</a:t>
            </a:r>
            <a:r>
              <a:rPr b="1" lang="fr-FR" sz="2800" spc="-1" strike="noStrike">
                <a:solidFill>
                  <a:srgbClr val="002060"/>
                </a:solidFill>
                <a:latin typeface="Calibri"/>
              </a:rPr>
              <a:t> : Eau et éner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4"/>
          <p:cNvSpPr/>
          <p:nvPr/>
        </p:nvSpPr>
        <p:spPr>
          <a:xfrm>
            <a:off x="1042920" y="1628640"/>
            <a:ext cx="66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Production de Dihydrogène a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611280" y="2276640"/>
            <a:ext cx="792000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Calibri"/>
              </a:rPr>
              <a:t>Lien avec le programme spécifique 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Calibri"/>
              </a:rPr>
              <a:t>Agir :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éfis du XXIème sièc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Économiser les ressources et respecter l’environn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1547640" y="3860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Enjeux énergétiq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ouvelles chaînes énergétiques.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1547640" y="4581360"/>
            <a:ext cx="741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Extraire et exploiter des informations sur des réalisations ou des projets scientifiques répondant à des problématiques énergétiques contemporaines.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1"/>
          <p:cNvSpPr/>
          <p:nvPr/>
        </p:nvSpPr>
        <p:spPr>
          <a:xfrm>
            <a:off x="250920" y="1705320"/>
            <a:ext cx="8172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Regard critique sur le résulta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Le document 3 indique que le coût de production du kilogramme de dihydrogène, par des électrolyseurs industriels peut varier entre 5 et 30 euros/kg selon la taille de l’instal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En obtenant un prix de 21,90€ /Kg , notre résultat est en accord avec ces valeurs.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oneTexte 3"/>
          <p:cNvSpPr/>
          <p:nvPr/>
        </p:nvSpPr>
        <p:spPr>
          <a:xfrm>
            <a:off x="826920" y="333360"/>
            <a:ext cx="74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 u="sng">
                <a:solidFill>
                  <a:srgbClr val="000000"/>
                </a:solidFill>
                <a:uFillTx/>
                <a:latin typeface="Calibri"/>
              </a:rPr>
              <a:t>Problématique</a:t>
            </a: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 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ZoneTexte 4"/>
          <p:cNvSpPr/>
          <p:nvPr/>
        </p:nvSpPr>
        <p:spPr>
          <a:xfrm>
            <a:off x="179280" y="2060640"/>
            <a:ext cx="8785440" cy="20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Quel serait le coût de produc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d’un Kilogramme de Dihydrogène (H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au Laboratoi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Image 3" descr="location-de-voiture-hydrogene-pile-a-combustible.jpg"/>
          <p:cNvPicPr/>
          <p:nvPr/>
        </p:nvPicPr>
        <p:blipFill>
          <a:blip r:embed="rId1"/>
          <a:stretch/>
        </p:blipFill>
        <p:spPr>
          <a:xfrm>
            <a:off x="3780000" y="3573360"/>
            <a:ext cx="51354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ZoneTexte 3"/>
          <p:cNvSpPr/>
          <p:nvPr/>
        </p:nvSpPr>
        <p:spPr>
          <a:xfrm>
            <a:off x="826920" y="33336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c00000"/>
                </a:solidFill>
                <a:uFillTx/>
                <a:latin typeface="Calibri"/>
              </a:rPr>
              <a:t>Matériel Mis à disposition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Image 4" descr="IMG_20180330_112356.jpg"/>
          <p:cNvPicPr/>
          <p:nvPr/>
        </p:nvPicPr>
        <p:blipFill>
          <a:blip r:embed="rId1"/>
          <a:stretch/>
        </p:blipFill>
        <p:spPr>
          <a:xfrm>
            <a:off x="179280" y="1052640"/>
            <a:ext cx="2160720" cy="2700360"/>
          </a:xfrm>
          <a:prstGeom prst="rect">
            <a:avLst/>
          </a:prstGeom>
          <a:ln w="0">
            <a:noFill/>
          </a:ln>
        </p:spPr>
      </p:pic>
      <p:pic>
        <p:nvPicPr>
          <p:cNvPr id="51" name="Image 5" descr="IMG_20180330_112514.jpg"/>
          <p:cNvPicPr/>
          <p:nvPr/>
        </p:nvPicPr>
        <p:blipFill>
          <a:blip r:embed="rId2"/>
          <a:stretch/>
        </p:blipFill>
        <p:spPr>
          <a:xfrm>
            <a:off x="179280" y="4005360"/>
            <a:ext cx="2160720" cy="2700360"/>
          </a:xfrm>
          <a:prstGeom prst="rect">
            <a:avLst/>
          </a:prstGeom>
          <a:ln w="0">
            <a:noFill/>
          </a:ln>
        </p:spPr>
      </p:pic>
      <p:sp>
        <p:nvSpPr>
          <p:cNvPr id="52" name="ZoneTexte 6"/>
          <p:cNvSpPr/>
          <p:nvPr/>
        </p:nvSpPr>
        <p:spPr>
          <a:xfrm>
            <a:off x="2700360" y="981000"/>
            <a:ext cx="54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upport avec 2 pin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ZoneTexte 7"/>
          <p:cNvSpPr/>
          <p:nvPr/>
        </p:nvSpPr>
        <p:spPr>
          <a:xfrm>
            <a:off x="2700360" y="1484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2 tubes gradués de 25mL ou 30mL (ou le cas échéant 2 éprouvettes gradué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ZoneTexte 8"/>
          <p:cNvSpPr/>
          <p:nvPr/>
        </p:nvSpPr>
        <p:spPr>
          <a:xfrm>
            <a:off x="2700360" y="220500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250mL d’une solution de Sulfate de Sodium à 0,5 mol*L</a:t>
            </a:r>
            <a:r>
              <a:rPr b="0" lang="fr-FR" sz="18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ZoneTexte 9"/>
          <p:cNvSpPr/>
          <p:nvPr/>
        </p:nvSpPr>
        <p:spPr>
          <a:xfrm>
            <a:off x="2700360" y="278136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 électrolyseur (de préférence à électrode de plati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ZoneTexte 10"/>
          <p:cNvSpPr/>
          <p:nvPr/>
        </p:nvSpPr>
        <p:spPr>
          <a:xfrm>
            <a:off x="2700360" y="4005360"/>
            <a:ext cx="59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e alimentation continue 30V/5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ZoneTexte 11"/>
          <p:cNvSpPr/>
          <p:nvPr/>
        </p:nvSpPr>
        <p:spPr>
          <a:xfrm>
            <a:off x="2700360" y="4508640"/>
            <a:ext cx="54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 ampèremètre et un voltmèt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ZoneTexte 12"/>
          <p:cNvSpPr/>
          <p:nvPr/>
        </p:nvSpPr>
        <p:spPr>
          <a:xfrm>
            <a:off x="2700360" y="501336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 chronomètre (ou appli chronomètre de Smartpho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ZoneTexte 13"/>
          <p:cNvSpPr/>
          <p:nvPr/>
        </p:nvSpPr>
        <p:spPr>
          <a:xfrm>
            <a:off x="2700360" y="6021360"/>
            <a:ext cx="50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es fils de connex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ZoneTexte 14"/>
          <p:cNvSpPr/>
          <p:nvPr/>
        </p:nvSpPr>
        <p:spPr>
          <a:xfrm>
            <a:off x="2700360" y="551664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e platine pour montage électr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ZoneTexte 13"/>
          <p:cNvSpPr/>
          <p:nvPr/>
        </p:nvSpPr>
        <p:spPr>
          <a:xfrm>
            <a:off x="2700360" y="3500280"/>
            <a:ext cx="49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 peu de B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"/>
          <p:cNvSpPr/>
          <p:nvPr/>
        </p:nvSpPr>
        <p:spPr>
          <a:xfrm>
            <a:off x="611280" y="2646720"/>
            <a:ext cx="79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Calibri"/>
              </a:rPr>
              <a:t>1)Ecrire les demi-équations des réactions se produisant à l’anode et à la catho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Calibri"/>
              </a:rPr>
              <a:t>En déduire l’équation se produisant dans l’électrolyseu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ZoneTexte 5"/>
          <p:cNvSpPr/>
          <p:nvPr/>
        </p:nvSpPr>
        <p:spPr>
          <a:xfrm>
            <a:off x="1403280" y="1341360"/>
            <a:ext cx="59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 u="sng">
                <a:solidFill>
                  <a:srgbClr val="000000"/>
                </a:solidFill>
                <a:uFillTx/>
                <a:latin typeface="Calibri"/>
              </a:rPr>
              <a:t>Question préliminaire 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179280" y="1643400"/>
            <a:ext cx="8569440" cy="33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Equation de la ré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Anode :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oxydation de l’eau  2H</a:t>
            </a:r>
            <a:r>
              <a:rPr b="0" lang="fr-FR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O = O</a:t>
            </a:r>
            <a:r>
              <a:rPr b="0" lang="fr-FR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(g)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+ 4 e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+ 4 H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+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     couple  O</a:t>
            </a:r>
            <a:r>
              <a:rPr b="0" lang="fr-FR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/ H</a:t>
            </a:r>
            <a:r>
              <a:rPr b="0" lang="fr-FR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Cathode :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réduction de l’eau  2 H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+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+ 2 e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 = H</a:t>
            </a:r>
            <a:r>
              <a:rPr b="0" lang="fr-FR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 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(g)                   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couple H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+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/ H</a:t>
            </a:r>
            <a:r>
              <a:rPr b="0" lang="fr-FR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Bila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2 H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0  = O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(g)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+ 2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Calibri"/>
              </a:rPr>
              <a:t>(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Image 3" descr="IMG_20180329_161353_resized_20180330_104729456.jpg"/>
          <p:cNvPicPr/>
          <p:nvPr/>
        </p:nvPicPr>
        <p:blipFill>
          <a:blip r:embed="rId1"/>
          <a:srcRect l="0" t="0" r="0" b="12371"/>
          <a:stretch/>
        </p:blipFill>
        <p:spPr>
          <a:xfrm>
            <a:off x="755640" y="1413000"/>
            <a:ext cx="7704000" cy="5229000"/>
          </a:xfrm>
          <a:prstGeom prst="rect">
            <a:avLst/>
          </a:prstGeom>
          <a:ln w="0">
            <a:noFill/>
          </a:ln>
        </p:spPr>
      </p:pic>
      <p:sp>
        <p:nvSpPr>
          <p:cNvPr id="66" name="ZoneTexte 4"/>
          <p:cNvSpPr/>
          <p:nvPr/>
        </p:nvSpPr>
        <p:spPr>
          <a:xfrm>
            <a:off x="1476360" y="620640"/>
            <a:ext cx="61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Calibri"/>
              </a:rPr>
              <a:t>Montage à effectuer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"/>
          <p:cNvSpPr/>
          <p:nvPr/>
        </p:nvSpPr>
        <p:spPr>
          <a:xfrm>
            <a:off x="324000" y="585360"/>
            <a:ext cx="864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2) Comparer les volumes de gaz produits aux électrodes, sont-ils en accord avec l’équation 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Calibri"/>
              </a:rPr>
              <a:t>Pourquoi ?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rcRect l="10155" t="5560" r="26058" b="14643"/>
          <a:stretch/>
        </p:blipFill>
        <p:spPr>
          <a:xfrm>
            <a:off x="250920" y="2421000"/>
            <a:ext cx="3889440" cy="403236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3"/>
          <p:cNvSpPr/>
          <p:nvPr/>
        </p:nvSpPr>
        <p:spPr>
          <a:xfrm>
            <a:off x="4643280" y="2753280"/>
            <a:ext cx="4176720" cy="28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Expérimentalement 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Volume de dihydrogène produit VH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= 25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Volume de dioxygène produit V0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 =12,3 m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"/>
              </a:rPr>
              <a:t>Vidéo de l’expérience 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vidéo electrolyse~1.avi" descr=""/>
          <p:cNvPicPr/>
          <p:nvPr/>
        </p:nvPicPr>
        <p:blipFill>
          <a:blip r:embed="rId1"/>
          <a:stretch/>
        </p:blipFill>
        <p:spPr>
          <a:xfrm>
            <a:off x="495360" y="1576440"/>
            <a:ext cx="8153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Image 1" descr=""/>
          <p:cNvPicPr/>
          <p:nvPr/>
        </p:nvPicPr>
        <p:blipFill>
          <a:blip r:embed="rId1"/>
          <a:stretch/>
        </p:blipFill>
        <p:spPr>
          <a:xfrm>
            <a:off x="755640" y="2565360"/>
            <a:ext cx="3816360" cy="1150920"/>
          </a:xfrm>
          <a:prstGeom prst="rect">
            <a:avLst/>
          </a:prstGeom>
          <a:ln w="0">
            <a:noFill/>
          </a:ln>
        </p:spPr>
      </p:pic>
      <p:sp>
        <p:nvSpPr>
          <p:cNvPr id="73" name="Zone de texte 3"/>
          <p:cNvSpPr/>
          <p:nvPr/>
        </p:nvSpPr>
        <p:spPr>
          <a:xfrm>
            <a:off x="-47520" y="604800"/>
            <a:ext cx="274320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250920" y="162360"/>
            <a:ext cx="8640720" cy="23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Volume de dihydrogène produit VH</a:t>
            </a:r>
            <a:r>
              <a:rPr b="0" lang="fr-FR" sz="1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= 25 mL pour une durée </a:t>
            </a: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t = 10 m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U = 7,3 Volts        I = 0,30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T = 24 °C  soit 297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La pression de 1010 h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</a:rPr>
              <a:t>Résult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Masse de dihydrogène produite ( masse de 25 mL de H</a:t>
            </a:r>
            <a:r>
              <a:rPr b="0" lang="fr-FR" sz="1600" spc="-1" strike="noStrike" baseline="-30000">
                <a:solidFill>
                  <a:srgbClr val="000000"/>
                </a:solidFill>
                <a:latin typeface="Calibri"/>
              </a:rPr>
              <a:t>2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0" y="457200"/>
            <a:ext cx="360" cy="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108000" y="3752280"/>
            <a:ext cx="87487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m = 25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6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*1010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/ (8,314*297) *2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3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= 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2,0.10</a:t>
            </a:r>
            <a:r>
              <a:rPr b="1" lang="fr-FR" sz="1600" spc="-1" strike="noStrike" u="sng" baseline="30000">
                <a:solidFill>
                  <a:srgbClr val="000000"/>
                </a:solidFill>
                <a:uFillTx/>
                <a:latin typeface="Calibri"/>
                <a:ea typeface="Calibri"/>
              </a:rPr>
              <a:t>-6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Coût de l’énergie électrique lors de l’expérience 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Wél = U*I*</a:t>
            </a: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t = 7,3* 0,30*10/60 = 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0,365.10</a:t>
            </a:r>
            <a:r>
              <a:rPr b="1" lang="fr-FR" sz="1600" spc="-1" strike="noStrike" u="sng" baseline="30000">
                <a:solidFill>
                  <a:srgbClr val="000000"/>
                </a:solidFill>
                <a:uFillTx/>
                <a:latin typeface="Calibri"/>
                <a:ea typeface="Calibri"/>
              </a:rPr>
              <a:t>-3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kW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EDF facture aux particuliers 12 centimes le kW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Donc une dépense de : 0,365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3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*12= 4,38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3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ct d’euro pour 2,0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6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kg d’hydrogè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Coût de l’énergie électrique par kg de dihydrogène 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4,38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3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centime d’euros            2,0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6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 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C                </a:t>
            </a: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               1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C =4,38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3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/ 2,0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6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= 2,19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3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centimes soit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21,9 euros/ 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3T12:43:44Z</dcterms:created>
  <dc:creator>winadmin</dc:creator>
  <dc:description/>
  <dc:language>en-US</dc:language>
  <cp:lastModifiedBy>winadmin</cp:lastModifiedBy>
  <dcterms:modified xsi:type="dcterms:W3CDTF">2018-04-11T06:41:11Z</dcterms:modified>
  <cp:revision>17</cp:revision>
  <dc:subject/>
  <dc:title>Diapositive 1</dc:title>
</cp:coreProperties>
</file>